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391-895C-46C6-81B1-44441FCF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AEA-1EEB-4CE2-863C-103DC5BA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722-DFB3-4946-AF60-830D2F93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CFA-283A-4125-B52B-67E74979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439F-3920-4DA5-8C41-4D00AF05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7EB6-2DEA-4FCD-A199-0C746D07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DBEB-059F-49C8-8F3F-065903FD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C58C-72E5-44B9-98A7-D2A179B7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5C64-9508-43A2-923E-DE1F7EEE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895C-9888-421F-B638-8B5F78E1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546E-C72A-492D-B852-6A044AB7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F5D-8A4E-4BDB-809C-DAFE40E8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42D3-3FDA-456B-BA93-F51327E9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97F9-C790-4517-85F6-3C74A25B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8603-5BF3-4AFE-AF8B-1A3EBE37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45B2-37DD-4AF2-8820-C836359C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9E8E-14A6-4B53-98E1-E01ABD93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2D8-5A3A-4BD5-92B2-0E6417D5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387-C3DE-4F00-99D5-821DA372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4A8-C073-4CDB-89A5-72653504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536-0C9C-47F2-AA37-C8BE106B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695-295D-4EAA-9B9A-67A6A951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0B9-6A2F-4285-9E01-E6CFCA05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6FA-ADD4-46DC-B4D7-35CCEC10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50C5-8A65-4EB7-833F-DFA74F240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9A51-5BA7-42B9-B508-C056D58B3B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nfidels.org/library/modern/richard_carrier/SciLit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Nature of Scien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a Tentative Enterpri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duct of the judgment of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individuals to defend their conclusions by appeals to reason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fic truths are those that are agreed upon by all fully informed ob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ly thing certain about science is that it will always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2 &amp;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Science is an Empirical System of Understanding the Physical World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irical in that knowledge is based on repeated practice and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n underlying supposition that data is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 5, 6, 12, &amp;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in min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unobservables (inductive reaso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influence by social or cultural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fundamentally an interpretive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not a Single Metho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fic methods refers to the whole gamut of means and methods in the world of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ct that science tests not just concepts but also methods and means also strengthens this discip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xperiments are a Goal-Oriented Form of Scientific Observatio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 is based on observations (as opposed to “science is based on experiment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s are goal-oriented procedures (as opposed to scientists having no idea how they will turn ou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ingle experiment can prove a theory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1, 7, 9 &amp;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cientific Theories are Explanations of Scientific Fac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ts are obser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ies explain the “why” or “how” behind those fa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sts use theories to guide further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ies change due to new data or connections between already know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4, 8, 14, 18, &amp; 2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cientific Laws are Descriptions of Nature’s Behavior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cientific law describes the relationships between observed phenom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Law of gravity describes what will happen when you drop an apple but doesn’t explain w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15, 17, 19, &amp; 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a Creative Enterpri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s human ingenuity with the desire to test everything against observed facts and rules of reason/log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cientific theories, models, etc. are human constru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es on inductive reasoning as much as deductive reas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13, 20, 21, &amp;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ur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infidels.org/library/modern/richard_carrier/SciLit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2:11:56Z</dcterms:created>
  <dc:creator>College of Education</dc:creator>
  <dc:description/>
  <dc:language>en-US</dc:language>
  <cp:lastModifiedBy>elpalme</cp:lastModifiedBy>
  <dcterms:modified xsi:type="dcterms:W3CDTF">2010-10-18T16:22:56Z</dcterms:modified>
  <cp:revision>3</cp:revision>
  <dc:subject/>
  <dc:title>Nature of Science</dc:title>
</cp:coreProperties>
</file>